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239-4514-4D9E-A64E-16C55130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5C2-EF5B-474D-8D8F-72F39D7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485-4292-4D48-8C76-FCEA3E2E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28A-ED6A-4391-8F8C-5C641DE8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2DC-EAE9-4C64-AB9F-FE2F3752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D15-705B-49A9-9869-A4AC7B42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1EC-E8CC-4DB9-AB3D-3346326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CFE-CDB6-4B7C-A221-1913222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E86-FB58-456F-9B48-20395220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BA4-2390-463A-A7EB-925DEBD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576-CB80-4A6C-8435-7E75A1C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FDA-FA5E-4CFA-ABCB-F82C2B0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ADD4-2479-4CC9-BA83-5F37E5A16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спешно пройти психологические тесты при приеме на рабо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Жизни.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знавательный жур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190600" cy="185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929280" y="285840"/>
            <a:ext cx="180504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2214720" cy="16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285840" y="4929120"/>
            <a:ext cx="1976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о также и что нарисуют первым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7680" y="1600200"/>
            <a:ext cx="5829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требность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– зацикленность на себ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рев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отребность в жизне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нергии. К тому же, дерево – метаф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й (дуб – уверенность в себе, ива – наоборот – неуверенность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етафора восприятия себя други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ь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етафора восприятия себя самим челове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замок – самолюбование, покосившаяся хижи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самооценка, недовольство соб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230976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71800" y="114264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рисунок должен быть реалистиче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ропорционале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емонстрировать сво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муникабельность и готовность работать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ллективе, не забудьте о таких деталя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рога к крыльц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контак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корни у дерев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связь с коллективом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окна и двер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брожелательность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солнц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жизнерадост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плодовое дерев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рактичность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*домашнее животно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бот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847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3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560" y="1600200"/>
            <a:ext cx="6357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ием людей в различ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зненных ситуациях и просят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комментироват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что происходи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о чем думает челове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* почему он так поступ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643800" y="857160"/>
            <a:ext cx="2286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я из толкования картинок, можно определ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дущие жизненные сценарии человека, ины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вами –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у кого что болит – тот о том и говорит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читается, что человек проектирует ситуации на картинках 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ю жизнь и выдает свои страхи, желания, взгляд на ми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, например, если на картинке изображен плачущий и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еющийся человек, то ожидается, что, комментируя её, в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кажете о своих мотивах радости или гру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920" y="2071800"/>
            <a:ext cx="5114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тролировать сво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ы и истолковы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тинки в максим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ом клю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307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4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як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600200"/>
            <a:ext cx="87868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оказывают картинки с изображ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форменной кляк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ак правило, симметричн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росят рассказать, что вы вид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29680" y="49291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т психологический тест чем-то похож 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ыдущий, он так же выявляет ваше истин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ношение к мир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зитивное трактование картинок (например 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ение людей) говорит о вас как о деятельном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ительном, позитивном человеке, негатив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кляксе вы разглядели монстра, опасное животное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 том, что у вас много необоснованны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хов или же глубокий стрес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142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артинка у вас ассоциируется с чем-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но негативным, прокомментируйте её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альном ключе. Например, не говорит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ижу людей, которые ссорятся», а скажите: «Люди эмоционально общаютс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9358200"/>
            <a:ext cx="12049200" cy="510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00880" y="1429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5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Q тес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99880" y="1600200"/>
            <a:ext cx="59295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м предлагают 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ный промежут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30 м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ить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колько вопро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40 до 2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ой направленности – от математических задачек до логических головолом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643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1285560"/>
            <a:ext cx="8786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нные психологические тесты предназначе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определения так называемого  Коэффициен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теллек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оть их действенность все чаще вызывает сомн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если у человека низкие показатели – это не обязательн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ит, что он тупой, возможно, у него нестандартно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ышление или он просто банально невнимателен), тес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же много лет сохраняют и увеличивают сво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пуляр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иболее распространены IQ тесты Айзен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357360" y="857160"/>
            <a:ext cx="55004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е тесты при приёме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 США и Европе очен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ы и использу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о десятков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шей стране  - это довольно н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ика, однако её поклон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аждым годом все больше и больш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дь она позволяет быстро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ивно выявить личностные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ачества кандида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2928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3920"/>
            <a:ext cx="540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ьте максимально внимательн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много вопросов с подвох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ремя истекает, а вопросов е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 – не оставляйте их без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авьте ответы наугад, что-то наверня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ада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ануне тестирования при прием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у пройдите несколько психологическ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тов в Интернете, это поможет выяв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ы 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татистике каждое последующе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хождение психологического теста повыш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ивность на 5-7%, только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кайтесь, а то вдруг окажитесь слиш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ным для предлагаемой дол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ерь вы видит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йти психологические тесты при приеме на работу не так уж слож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у вас есть «ключи», которые откроют путь к новым карьерным достижения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14800" y="4429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0200" y="1214280"/>
            <a:ext cx="64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компании и специалис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одбору персонала, пожалу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преувеличивают значим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ов тестирования, поэтом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такое испытание не ста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ем к получению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шей мечты, необходимо зн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 блеском его преодоле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5840" y="43578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1. Любимый ц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м предлагается расположить 8 карто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ных цветов в порядке, начиная от самог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ятного до самого неприят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ый тест направлен на определени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оционального состояния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ая карточка символизиру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ебности чело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215040" y="2214720"/>
            <a:ext cx="2714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ак, расположите 8 карточек разных цвет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орядке, начиная от самого приятного до самого неприятно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500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ый, жёлтый, зелёный, синий, серый, фиолетовый, коричневый, чё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214720" y="2714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перь посмотрите, как расценивают эти цвета будущие работодат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43040" y="1428840"/>
            <a:ext cx="7215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ый ц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действ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т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устремлении к цели, надежд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ле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самоутвержда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отребность в привязанности, постоянств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усталость, стремление к поко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олето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ход от ре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ичнев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требность в защ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депресс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оложение карточек значит следующее: первые две – стремления человека, 3 и 4 – истинное положение дел, 5 и 6 – равнодушное отношение, 7 и 8 – антипатия, подавл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128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3880" y="160020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ервой четверке обязательно должны быть красный, желты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ний, зеленый – в каком именно порядке, не так существ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редпочтительный вариант расположения карточе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рисует портрет целеустремленного, деятельного челове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асный – желтый – зеленый – синий – фиолетовый –коричневый – серый - черн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могут предложить пройти этот психологический тест дваж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второй раз немного поменяйте карточки местами, но не значительн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о вас сочтут неуравновешенной лич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18478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й тест № 2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 рис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43200" y="3000240"/>
            <a:ext cx="5043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м предлагают нарисовать дом, дерево,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2857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 значи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читается, что так человек може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свое самовосприятие в мир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данном психологическом тесте значе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каждая деталь: расположение рисунка на лист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расположенный по центру, пропорциональный рисунок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ворит об уверенности в себе), единая композиция из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ех объектов свидетельствует о целостности личност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вид объекта будет отображе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32:02Z</dcterms:created>
  <dc:creator>User</dc:creator>
  <dc:description/>
  <dc:language>en-US</dc:language>
  <cp:lastModifiedBy>User</cp:lastModifiedBy>
  <dcterms:modified xsi:type="dcterms:W3CDTF">2012-02-13T15:12:54Z</dcterms:modified>
  <cp:revision>10</cp:revision>
  <dc:subject/>
  <dc:title>Как успешно пройти психологические тесты при приеме на работу? </dc:title>
</cp:coreProperties>
</file>